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BDE0-650F-4854-AA23-F2604D1C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DB1E-1D2A-4641-B429-C7998534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BF81-DC6F-446B-A744-E814F340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922C-938B-4B11-B2EF-E8C4CC17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1D37-D019-4085-B557-ABA2F842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7C4E-5F9F-471D-8676-A2BBDC0E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B26-8D41-42C2-BD7B-B1A2C54C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F162-3391-4905-BACA-50888619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3C5E-DDCB-4B06-8302-F55FE38F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403-DEF9-4B01-AEE7-6048EC44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FA8-E72A-46A3-893A-18E6313D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92A-6686-46EF-9F3F-2860F264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DCCA-02E4-4F4B-BA18-15ABF0031F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6320" y="5373720"/>
            <a:ext cx="5450040" cy="3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70c0"/>
                </a:solidFill>
                <a:latin typeface="Calibri"/>
              </a:rPr>
              <a:t>enquiries@civilmart.com.au for more inform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900000" y="5243400"/>
            <a:ext cx="1465200" cy="479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HYDROLOGO_2 inch"/>
          <p:cNvPicPr/>
          <p:nvPr/>
        </p:nvPicPr>
        <p:blipFill>
          <a:blip r:embed="rId2"/>
          <a:stretch/>
        </p:blipFill>
        <p:spPr>
          <a:xfrm>
            <a:off x="6804000" y="2774880"/>
            <a:ext cx="1486080" cy="50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6651720" y="1206360"/>
            <a:ext cx="241920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659640" y="2060640"/>
            <a:ext cx="1630440" cy="46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5"/>
          <a:stretch/>
        </p:blipFill>
        <p:spPr>
          <a:xfrm>
            <a:off x="1116000" y="723960"/>
            <a:ext cx="25606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1T01:28:49Z</dcterms:created>
  <dc:creator>Tony Nguyen</dc:creator>
  <dc:description/>
  <dc:language>en-US</dc:language>
  <cp:lastModifiedBy>Tony Nguyen</cp:lastModifiedBy>
  <dcterms:modified xsi:type="dcterms:W3CDTF">2023-04-26T01:09:25Z</dcterms:modified>
  <cp:revision>5</cp:revision>
  <dc:subject/>
  <dc:title>PowerPoint Presentation</dc:title>
</cp:coreProperties>
</file>